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84A-1AE0-43A3-BFC0-E5669707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7D7-6671-48F5-9F88-17B47E1D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186-E7D4-48E5-ABF4-FB7A7790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324-F312-4097-B9A2-37E306C8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215-26A7-491F-9C33-4C179565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723-8C67-4474-B025-20C38157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DBB-4F2A-4C84-B260-8C90E575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15F-0C8A-4CD4-86E5-57FDF834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E3E-0FDA-463B-A5C3-B71729F5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ADA-DCFC-416D-B2F6-28F1E983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90E-8D07-4172-9DE2-69E3ED3B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607-020E-4572-99F9-F308AD8C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373F-2AD9-4E9F-BB07-101343CA8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جهاز الهض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1773360"/>
            <a:ext cx="640080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410160" cy="6410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30495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2:45:25Z</dcterms:created>
  <dc:creator>school</dc:creator>
  <dc:description/>
  <dc:language>en-US</dc:language>
  <cp:lastModifiedBy>school</cp:lastModifiedBy>
  <dcterms:modified xsi:type="dcterms:W3CDTF">2008-05-27T12:45:28Z</dcterms:modified>
  <cp:revision>1</cp:revision>
  <dc:subject/>
  <dc:title>الجهاز الهضمي</dc:title>
</cp:coreProperties>
</file>